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E053-B01C-4547-AD5A-DF106966AD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7DCD-1182-4D50-A886-ECB85135E2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F25E-C2F2-49E7-A8A2-D2383A3E87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211D-353E-43C5-9D2C-73F8CE084C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A067-8EB9-480A-94EE-0B4428A44A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A012-0B45-49FA-8AE4-219CEBEE33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2B12-58B2-4A7D-8152-DDB1F90DD9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DA99-964C-4089-A8D1-56A51B4689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259D-74F5-4BCC-9A13-0F29FA1A29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9D5A-2A94-46BC-AC3A-142693C06B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40AE-2F6A-4FC8-BEA6-CE4A91BEE4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E4B9-8324-4517-BE68-FD2A0E0985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C62F-680B-4E93-8CC2-E888556E70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CB5-E0D0-4FAD-8C00-846C31A5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BF4-4DA3-432E-9DF3-6609185D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859A-5C6A-4A18-823E-77C58090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D7D-4ACE-4701-AC3E-812C3623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7185-73DD-4E44-891F-DCCB6C51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A35E-9E8C-4C63-B717-47BAE8A8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FBF6-0E30-4282-88CF-D70204DD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014D-AD57-432E-A820-DCF33932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D8A5-31BC-4B7E-8E7F-9CBD7245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703B-982A-4C13-9521-84A1A1D7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FC7E-00F9-42E4-8AD7-3D5110EE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B6C-907D-431B-BEB3-48789136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512D-1512-4FD7-9988-1DB6B9A0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38E8-4C84-40C8-BA91-FD5CF1BD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4AC4-5322-4B09-B46A-ACECCDE5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FFC5-0A01-4B93-B0C4-080C3F96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8601-4329-4E18-B194-D56BD639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C8743-CBE8-4C05-A9CC-24FB2541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3DA6-40C4-480F-8BE0-25046283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AD6F-03DE-495F-9FDC-B65328D8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DC823-7C95-4F0B-81AD-D603F447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ACA1-3673-489C-93BF-F783889D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099-F41B-486D-94D4-3CCBDE0C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BC8A-86F6-4F2D-BEB7-52919D3C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19EB1-AA71-484A-982C-7E239D4C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CB2D3-DA4D-4489-80D7-0D751620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322B2-7333-43C1-83F7-482AA83D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D16E1-47C4-47C3-864F-5C3CCF96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B5681-8AA4-469E-B5C9-E1CC0E68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F267A-E446-4470-8570-543E7606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A0F34-0DEB-4552-8E92-40A3D0F0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FA8D3-8814-4D33-95BE-60BD9FDD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1BF93-18D1-46FC-9341-D2B5CE8A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63C2-0A3B-415E-BC78-CAAADCA3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ED67C-B674-4E42-9828-A3DEDD40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48EBE-55A5-43C8-8A67-C9CDB0E8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DC360-0B64-43DD-9DB3-B2B883D9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6CE6C-4508-4858-8D0E-9B4B6071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465A8-EC05-4BE6-B300-9664EBA8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49DE7-7DBC-43D2-9441-CE9DE3C1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AD847-CD2A-46A6-93AA-314DE763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85CB0-6538-4036-A244-CA7B428A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58085-AF93-4EA9-974E-FD39A79B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C46-62C5-4179-9F71-970EC246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7AF2-1E72-4844-932C-80EB4CA8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E7D-1B59-4E98-90A3-0CDCBAFD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C48-8B55-4DE6-93A4-0BA21CEC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8D1-8DD3-4E30-8AF3-7A9F71E5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90E0-955B-4E61-9127-78AC9741446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0C1D-B3EC-422C-8264-B779B3CFAE0D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4F9D-4CFC-4954-8A9C-F92EFA99B31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189D-AD91-415B-8CBC-689A39AF81F7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33FB-4AF9-4F14-90BE-0254DB4293A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B20C-D2CE-4A04-85AB-E9C737BC8239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B658-47B6-4851-B23B-22C7C54C72A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A44F-7922-4347-9232-D5341B585133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5b59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утрен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Организацион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ммуникационные процесс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ганизационное построение предприятия или фирм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ормы, правила и процедуры производственного процесс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пределение прав и ответствен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ерархию подчи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988640"/>
            <a:ext cx="404028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ступают в качестве базы, на которую организация опирается в конкурентной борьбе и которую пытается расширить и укрепить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4720" y="1052280"/>
            <a:ext cx="4041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44720" y="1988640"/>
            <a:ext cx="40417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ы стать предметом внимания руководства, которое должно принять решение относительно устранения слабых сторон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SNW-</a:t>
            </a: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анали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ббревиатура трех английских слов (S - сильная позиция (сторона); N – нейтральная позиция; W – слабая позиция (сторона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качестве нейтральной позиции лучшего всего фиксировать среднерыночное состояние для данной конкретной ситуац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етко фиксируется ситуационное среднерыночное состояние, то есть своеобразная нулевая точка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езы анализа внутрен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ильные и слабые стороны организа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NW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a5b592"/>
                </a:solidFill>
                <a:latin typeface="Trebuchet MS"/>
              </a:rPr>
              <a:t>Внутренняя среда организации</a:t>
            </a:r>
            <a:endParaRPr b="0" lang="en-US" sz="40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 часть общей среды, которая находится в ее пределах. Она оказывает постоянное и самое непосредственное воздействие на функционирование организации. Под внутренней средой понимается хозяйственный организм фирмы, включающий управленческий механизм, направленный на оптимизацию научно-технической и производственно-сбытов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Внутрифирменная диагностика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сонал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ультура и имидж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екорпоративное управл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a5b592"/>
                </a:solidFill>
                <a:latin typeface="Trebuchet MS"/>
              </a:rPr>
              <a:t>Маркетинговый потенциал</a:t>
            </a:r>
            <a:endParaRPr b="0" lang="en-US" sz="3200" spc="-1" strike="noStrike">
              <a:solidFill>
                <a:srgbClr val="a5b592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42960" y="1500120"/>
          <a:ext cx="7858080" cy="5159520"/>
        </p:xfrm>
        <a:graphic>
          <a:graphicData uri="http://schemas.openxmlformats.org/drawingml/2006/table">
            <a:tbl>
              <a:tblPr/>
              <a:tblGrid>
                <a:gridCol w="3922560"/>
                <a:gridCol w="3935520"/>
              </a:tblGrid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360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ие и качество ассорт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характеристики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продук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ция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аковка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ая мар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о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йскурантная ц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ид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нс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е це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о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выдачи кред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ый персонал Рекл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и с обществен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ы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ры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образие кан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 поддерж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одажное обслужи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в торговых точка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продажное обслуж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 функций и обяза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a5b592"/>
                </a:solidFill>
                <a:latin typeface="Trebuchet MS"/>
              </a:rPr>
              <a:t>Производственный срез</a:t>
            </a:r>
            <a:endParaRPr b="0" lang="en-US" sz="44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е продукции, снабжения и ведения складского хозяйств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служивание технологического оборудова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уществление исследований и разработ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Финансов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ка ликвид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еспечение прибы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ание финансовой устойчив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е инвестиционных возможностей и тому подобно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Срез по персоналу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заимодействие менеджеров и рабочи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е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еба и продвижение кадр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у результатов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отивацию и стимулирование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я атмосферы и поддержки отношений в коллектив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387360" y="1220760"/>
          <a:ext cx="7958160" cy="5637240"/>
        </p:xfrm>
        <a:graphic>
          <a:graphicData uri="http://schemas.openxmlformats.org/drawingml/2006/table">
            <a:tbl>
              <a:tblPr/>
              <a:tblGrid>
                <a:gridCol w="3979800"/>
                <a:gridCol w="3978360"/>
              </a:tblGrid>
              <a:tr h="303120"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4120"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ильного лидера, который устанавливает принципы и нормы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еры посвящают значительное время объяснению этих принципов персоналу и постоянно подчеркивают важность исполь­зования этих принципов при принятии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соответствие между культурой и долгосрочными пла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превращает работу в образ жизни, воспиты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мотивируя сотруд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явшиеся ценности и нормы поведения не меняются при появлении нового лид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рудники хорошо осведомлены об истории организации, с уважением относятся к традициям, ритуалам и организационным симво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уделяется внимание прежде всего разъяснению своей фирменной философии, пропаганде своих цен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людей как главного ресурса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рассматривается как средство суще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ует множество субкульт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общепризнанных ценностей и правил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традиции, ритуалы, организационные симв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деляется должного внимания формированию истории органи­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зированная обстановка на фирме, когда отдельные руководители проводят собственную политику и оказывают сопротивление необходимым измене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ждебное отношение ко всякого рода иннов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руководства, ориентирован­ный в большей степени на органи­зационную структуру, бюджет, систему контроля над персоналом в ущерб созданию корпоративн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выделя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tabLst>
                          <a:tab algn="l" pos="0"/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формальные колич­ственные аспекты деятельности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экономических и технических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Культур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7:43Z</dcterms:modified>
  <cp:revision>12</cp:revision>
  <dc:subject/>
  <dc:title>Theme 7</dc:title>
</cp:coreProperties>
</file>